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91B0-677A-4CB6-9262-D8E0DE76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2F72-8654-415B-9AE8-3243D5CC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EFAC-4CC5-4885-A612-8A8A8167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432B-CF13-4D5B-AE0B-CA7FF199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1A3F-77B3-46A7-BA10-0EE6A3D4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480D-73D4-40ED-84D9-AA84DB08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DD00-4B0C-4037-986D-61EFC534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DCF1-0BDB-4207-A9B9-E7AEE920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DF4-C17E-4150-9289-A8D119AE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4573-6606-434C-8281-394D5CE7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12F3-9C38-49CD-94BE-7F34D842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50B4-3512-4460-A9A5-9DBEE8CA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E5B0-132E-4BC8-AA2C-0729FEDEEC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50920" y="2421000"/>
            <a:ext cx="8569080" cy="182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4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нятие интеллектуальной информационной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2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Инженерия знаний. Модели представления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3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Экспертные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79280" y="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нтеллектуальные системы и технологии как перспектива развития ЭИ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8"/>
          <p:cNvSpPr/>
          <p:nvPr/>
        </p:nvSpPr>
        <p:spPr>
          <a:xfrm>
            <a:off x="250920" y="333360"/>
            <a:ext cx="86407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. Продукционная мод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спользую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дукцион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авила «если – то», дополненные логическими операто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Если (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Спрос на товар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Неэластичен по цене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и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Цена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понижается) то (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Выручка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пада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2924280"/>
          <a:ext cx="8640720" cy="1584360"/>
        </p:xfrm>
        <a:graphic>
          <a:graphicData uri="http://schemas.openxmlformats.org/drawingml/2006/table">
            <a:tbl>
              <a:tblPr/>
              <a:tblGrid>
                <a:gridCol w="2808360"/>
                <a:gridCol w="2808000"/>
                <a:gridCol w="30243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риб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 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ос на тов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эластичен по це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 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ос на тов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астичен по це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 Box 27"/>
          <p:cNvSpPr/>
          <p:nvPr/>
        </p:nvSpPr>
        <p:spPr>
          <a:xfrm>
            <a:off x="179280" y="486900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инность изначально устанавливается экспертами или в процессе решения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5"/>
          <p:cNvSpPr/>
          <p:nvPr/>
        </p:nvSpPr>
        <p:spPr>
          <a:xfrm>
            <a:off x="179280" y="260280"/>
            <a:ext cx="87138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. Семантическая се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истема знаний предметной области представляется в виде образа сети, узлы которой соответствуют понятиям и объектам, а дуги – отношениям между объек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емантических сетях используют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тнош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и типа «часть –целое» («элемент – множество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ональные связи (глагольные обороты: влияет на…, подчиняется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енные (больше, меньше, рав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рибутивные связи (имеет свойство, имеет знач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е связи (И, ИЛИ, 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я «сходства – различ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я «причина – следствие»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"/>
          <p:cNvPicPr/>
          <p:nvPr/>
        </p:nvPicPr>
        <p:blipFill>
          <a:blip r:embed="rId1"/>
          <a:srcRect l="52446" t="42229" r="26003" b="30974"/>
          <a:stretch/>
        </p:blipFill>
        <p:spPr>
          <a:xfrm>
            <a:off x="1042920" y="1628640"/>
            <a:ext cx="7489800" cy="4005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1042920" y="549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 семантиче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468360" y="549360"/>
            <a:ext cx="849636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реализации семантических сетей существуют специальные языки программирования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, SIMER+MIR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р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PECTOR, TORUS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ые экспертные системы использующие семантические сети в качестве модели представления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тизация отношений семантической сети является сложной задачей. Общезначимые отношения, присутствующие во многих областях, явлвяются основой концепции семантических с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антические сети получили широкое распространение в распознавании речи и экспертных систе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сть в струкуризации семантических сетей привела к появлению фрей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79280" y="189000"/>
            <a:ext cx="8713800" cy="64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4. Фреймовая мод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снована на теории фреймов, разработанной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М.Минским (США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редставляющей систематизированную модель памяти и сознания человека. Применяется в комбинации с другими мод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реймом (рамка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 структура данных для представления стереотипной ситуации или объекта. Фрейм имеет 1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содержит ряд полей – 2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одержащих определенное значение и 3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оединенных процедур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анных с именем фрейма и сло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ипы фрейм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реймы-структу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обозначения объектов и понятий (заказ, товар, ценная бумаг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реймы-ро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оставщик, кассир, клиент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реймы-сценар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родажа товаров, прием заказо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реймы-ситу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бнаружение дефекта товара)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ная область представляется множеством взаимосвязанных фрей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2" descr=""/>
          <p:cNvPicPr/>
          <p:nvPr/>
        </p:nvPicPr>
        <p:blipFill>
          <a:blip r:embed="rId1"/>
          <a:srcRect l="28382" t="17835" r="21645" b="35226"/>
          <a:stretch/>
        </p:blipFill>
        <p:spPr>
          <a:xfrm>
            <a:off x="1116000" y="115920"/>
            <a:ext cx="7128000" cy="43927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3"/>
          <p:cNvSpPr/>
          <p:nvPr/>
        </p:nvSpPr>
        <p:spPr>
          <a:xfrm>
            <a:off x="324000" y="4508640"/>
            <a:ext cx="88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уменьшения информационной избыточности во фреймовых системах реализуют принцип наследования информации, позволяющий общую для системы информацию хранить в отдельном фрейме, а во всех остальных фреймах указывать лишь ссылку на место хранения этой информации (АКО связи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-Kind-of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611280" y="5805360"/>
            <a:ext cx="73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еймовая модель, описывающая понятие «учен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3" descr=""/>
          <p:cNvPicPr/>
          <p:nvPr/>
        </p:nvPicPr>
        <p:blipFill>
          <a:blip r:embed="rId1"/>
          <a:srcRect l="11474" t="23809" r="38448" b="41885"/>
          <a:stretch/>
        </p:blipFill>
        <p:spPr>
          <a:xfrm>
            <a:off x="324000" y="260280"/>
            <a:ext cx="8496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50920" y="189000"/>
            <a:ext cx="8497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. Экспертные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тная система (ЭС) – это компьютерна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ая моделирует рассуждения человека-эксперта в некоторой определенной области и использует для этог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зу зна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одержащую факты и правила об этой области и некоторую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дуру логического выв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С предназначены для моделирования и имитации логики опытных специалистов при принятии решения по какому-либо узкому вопросу в определенной предметной об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С позволяют накапливать, систематизировать и использовать знания и профессиональный опыт лучших экспер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179280" y="765000"/>
            <a:ext cx="8653680" cy="5111640"/>
            <a:chOff x="179280" y="765000"/>
            <a:chExt cx="8653680" cy="5111640"/>
          </a:xfrm>
        </p:grpSpPr>
        <p:sp>
          <p:nvSpPr>
            <p:cNvPr id="139" name="Text Box 3"/>
            <p:cNvSpPr/>
            <p:nvPr/>
          </p:nvSpPr>
          <p:spPr>
            <a:xfrm>
              <a:off x="2033640" y="954000"/>
              <a:ext cx="1699560" cy="75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одсистема поясне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4"/>
            <p:cNvSpPr/>
            <p:nvPr/>
          </p:nvSpPr>
          <p:spPr>
            <a:xfrm>
              <a:off x="4351320" y="954000"/>
              <a:ext cx="1854360" cy="75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Рабочая область – база  данных (БД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5"/>
            <p:cNvSpPr/>
            <p:nvPr/>
          </p:nvSpPr>
          <p:spPr>
            <a:xfrm>
              <a:off x="6823800" y="765000"/>
              <a:ext cx="1854360" cy="151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База  знаний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равила, заключения, общие фак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6"/>
            <p:cNvSpPr/>
            <p:nvPr/>
          </p:nvSpPr>
          <p:spPr>
            <a:xfrm>
              <a:off x="6978600" y="2847600"/>
              <a:ext cx="1854360" cy="151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одсистема приобретения и накопления зна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7"/>
            <p:cNvSpPr/>
            <p:nvPr/>
          </p:nvSpPr>
          <p:spPr>
            <a:xfrm>
              <a:off x="4506120" y="2658240"/>
              <a:ext cx="1854360" cy="113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оздатель заключений (Решатель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2188080" y="2847600"/>
              <a:ext cx="1699560" cy="75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нтерфейс пользовател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181800" y="2850480"/>
              <a:ext cx="1545120" cy="56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ользов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0"/>
            <p:cNvSpPr/>
            <p:nvPr/>
          </p:nvSpPr>
          <p:spPr>
            <a:xfrm>
              <a:off x="7133040" y="4930200"/>
              <a:ext cx="1390680" cy="75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нженер зна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1"/>
            <p:cNvSpPr/>
            <p:nvPr/>
          </p:nvSpPr>
          <p:spPr>
            <a:xfrm>
              <a:off x="7751160" y="2279520"/>
              <a:ext cx="0" cy="55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2"/>
            <p:cNvSpPr/>
            <p:nvPr/>
          </p:nvSpPr>
          <p:spPr>
            <a:xfrm>
              <a:off x="5278680" y="1711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3"/>
            <p:cNvSpPr/>
            <p:nvPr/>
          </p:nvSpPr>
          <p:spPr>
            <a:xfrm>
              <a:off x="7905960" y="4362120"/>
              <a:ext cx="0" cy="37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4"/>
            <p:cNvSpPr/>
            <p:nvPr/>
          </p:nvSpPr>
          <p:spPr>
            <a:xfrm>
              <a:off x="2960640" y="1711440"/>
              <a:ext cx="0" cy="113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5"/>
            <p:cNvSpPr/>
            <p:nvPr/>
          </p:nvSpPr>
          <p:spPr>
            <a:xfrm>
              <a:off x="3733200" y="1332720"/>
              <a:ext cx="6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6"/>
            <p:cNvSpPr/>
            <p:nvPr/>
          </p:nvSpPr>
          <p:spPr>
            <a:xfrm>
              <a:off x="6205680" y="1332720"/>
              <a:ext cx="6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7"/>
            <p:cNvSpPr/>
            <p:nvPr/>
          </p:nvSpPr>
          <p:spPr>
            <a:xfrm>
              <a:off x="3888000" y="3036960"/>
              <a:ext cx="6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8"/>
            <p:cNvSpPr/>
            <p:nvPr/>
          </p:nvSpPr>
          <p:spPr>
            <a:xfrm>
              <a:off x="1724400" y="322596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9"/>
            <p:cNvSpPr/>
            <p:nvPr/>
          </p:nvSpPr>
          <p:spPr>
            <a:xfrm flipH="1">
              <a:off x="6360120" y="1711440"/>
              <a:ext cx="463320" cy="15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 flipH="1" flipV="1">
              <a:off x="3114720" y="1711080"/>
              <a:ext cx="1390680" cy="113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1"/>
            <p:cNvSpPr/>
            <p:nvPr/>
          </p:nvSpPr>
          <p:spPr>
            <a:xfrm>
              <a:off x="6205680" y="1522080"/>
              <a:ext cx="772560" cy="20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7133040" y="4740840"/>
              <a:ext cx="1545120" cy="113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179280" y="2658240"/>
              <a:ext cx="1545120" cy="949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24000" y="333360"/>
            <a:ext cx="856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оектировании ЭС специально подготовленный системный аналитик –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женер знани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но работает с экспертами в изучаемой области с целью уяснения способов принятия ре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Подсистема приобретения и накопления знани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гает инженеру знаний в регистрации правил заключения и параметров в базе зн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База зна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едназначена для хранения долгосрочных данных (знаний), описывающих рассматриваемую область; правил, описывающих преобразование данных, и заклю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1. Понятие интеллектуальной информационной систем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79280" y="1197000"/>
            <a:ext cx="878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нтеллектуальными информационными систем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ИИС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.е. системами, обладающими «искусственным интеллектом», будем называть такие ИС, которые при решен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або формализованных, интеллектуальных  задач, алгоритм решения которых неизвестен или слишком сложе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ак и человеческий разум, используют накопленный опыт и анализ состояния объекта и внешн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79280" y="4365720"/>
            <a:ext cx="8785440" cy="23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интеллектуальных задач сложно формализовать путь (алгоритм) ре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римеры интеллектуальных зада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ознавание образ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ятие оптимальных решений (в управлении, экономике, при планировании, прогнозировании и т.п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24000" y="189000"/>
            <a:ext cx="8569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База дан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в ЭС предназначена для хранения исходных и промежуточных данных решаемой в текущий момент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здатель заключ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решатель, интерпретатор) на основе исходных данных из рабочей памяти и базы знаний формирует последовательность правил, которая приводит к решению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дсистема поясн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ъясняет процесс получения решения задачи, какие знания при этом были использов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нтерфейс пользова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риентирован на организацию дружелюбного общения с пользователями – как в ходе решения задачи, так и в процессе приобретения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250920" y="404640"/>
            <a:ext cx="8497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разработке ЭС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экспер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пределяет знания (данные и правила), характеризующие предметную область, обеспечивает полноту и правильность введенных в ЭС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нженер по знания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зволяет эксперту выявить и структурировать знания, необходимые для работы ЭС, определяет инструментальные средства, наиболее подходящие для данной предметной области, определяет способ предоставления знаний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рограмми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рабатывает инструментальные сред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324000" y="333360"/>
            <a:ext cx="8496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редства разработки Э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пециализированные языки программирования (LIS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языки инженерии знаний (ПРОЛОГ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автоматизированные системы-окружения, используемые для разработки систем искусственного интеллекта (например, КЕЕ, AR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болочки ЭС (пустые ЭС) – например, ЭКСПЕРТИЗА, ЭКСПЕРТ и др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ниверсальные языки программирования (Си, Паскаль, Ассемблер и др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24000" y="333360"/>
            <a:ext cx="8496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редства разработки Э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разработке ЭС используется математический аппарат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– теория нечетких множест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позволяет описывать нечеткие понятия и знания, оперировать этими знаниями и делать нечеткие вы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ри представлении знаний используются понятия нечетких множе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ри использовании знаний – методы нечеткой лог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250920" y="549360"/>
            <a:ext cx="871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  <a:ea typeface="Arial"/>
              </a:rPr>
              <a:t>Отличительной чертой экспертных систем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 накапливать знания и опыт квалифицированных профессионалов (экспертов) в какой-либо предметной обла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 помощи этих знаний специалисты с не очень высокой квалификацией могут решать сложные задачи на столь высоком уровне, как и эксперты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4000" y="3284640"/>
            <a:ext cx="85690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ласти применения экспертных сист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цинская диагно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логоразвед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ий синтез новых веществ с заданными свой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ностика неисправностей в ТС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6600"/>
                </a:solidFill>
                <a:uFillTx/>
                <a:latin typeface="Arial"/>
              </a:rPr>
              <a:t>Экономический анализ: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Диагностика финансового состояния (благополучия)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6600"/>
                </a:solidFill>
                <a:uFillTx/>
                <a:latin typeface="Arial"/>
              </a:rPr>
              <a:t>Маркетинг: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Прогнозирование спроса на товары, усл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0"/>
            <a:ext cx="89647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щие черты ИИ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к накоплению знаний в целях их последующего при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ь функционирования в условиях неопределенности обрабатываемой информации или знаний о закономерностях функционирования исследуемой предметн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этапное улучшение качества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24000" y="35733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теллектуальные информационные технолог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79280" y="3933720"/>
            <a:ext cx="8713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ехнологии инженерии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ехнологии экспертных систем (систем поддержки и принятия реше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ехнологии эволюционного модел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ейросетевые технологии и нечеткая лог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ибридн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79280" y="0"/>
            <a:ext cx="8785440" cy="65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знаками интеллектуальных сист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муникативные способности - способ взаимодействия конечного пользователя с систем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сложных плохо формализуемых задач, которые требуют построения оригинального алгоритма решения в зависимости от конкретной ситуации, характеризующейся неопределенностью и динамичностью исходных данных и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к самообучению - умение системы автоматически извлекать знания из накопленного опыта и применять их для решения зада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аптивность - способность системы к развитию в соответствии с объективными изменениями области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"/>
          <p:cNvGrpSpPr/>
          <p:nvPr/>
        </p:nvGrpSpPr>
        <p:grpSpPr>
          <a:xfrm>
            <a:off x="385920" y="77760"/>
            <a:ext cx="8433720" cy="6519960"/>
            <a:chOff x="385920" y="77760"/>
            <a:chExt cx="8433720" cy="6519960"/>
          </a:xfrm>
        </p:grpSpPr>
        <p:sp>
          <p:nvSpPr>
            <p:cNvPr id="52" name="AutoShape 50"/>
            <p:cNvSpPr/>
            <p:nvPr/>
          </p:nvSpPr>
          <p:spPr>
            <a:xfrm>
              <a:off x="385920" y="77760"/>
              <a:ext cx="8361720" cy="651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49"/>
            <p:cNvSpPr/>
            <p:nvPr/>
          </p:nvSpPr>
          <p:spPr>
            <a:xfrm>
              <a:off x="2731320" y="77760"/>
              <a:ext cx="4306320" cy="40824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нтеллектуальные информационные систе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2"/>
            <p:cNvGrpSpPr/>
            <p:nvPr/>
          </p:nvGrpSpPr>
          <p:grpSpPr>
            <a:xfrm>
              <a:off x="385920" y="486000"/>
              <a:ext cx="8433720" cy="6039720"/>
              <a:chOff x="385920" y="486000"/>
              <a:chExt cx="8433720" cy="6039720"/>
            </a:xfrm>
          </p:grpSpPr>
          <p:sp>
            <p:nvSpPr>
              <p:cNvPr id="55" name="AutoShape 48"/>
              <p:cNvSpPr/>
              <p:nvPr/>
            </p:nvSpPr>
            <p:spPr>
              <a:xfrm>
                <a:off x="2538360" y="1200600"/>
                <a:ext cx="2130840" cy="112176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Экспертны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систем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решение сложных плохо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формализуемых задач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AutoShape 47"/>
              <p:cNvSpPr/>
              <p:nvPr/>
            </p:nvSpPr>
            <p:spPr>
              <a:xfrm>
                <a:off x="4874040" y="1200600"/>
                <a:ext cx="1802880" cy="112176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Самообучающиес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систем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способность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к самообучению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AutoShape 46"/>
              <p:cNvSpPr/>
              <p:nvPr/>
            </p:nvSpPr>
            <p:spPr>
              <a:xfrm>
                <a:off x="6923880" y="1200600"/>
                <a:ext cx="1805040" cy="112176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Адаптивны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информационные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систем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адаптивность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" name="Group 33"/>
              <p:cNvGrpSpPr/>
              <p:nvPr/>
            </p:nvGrpSpPr>
            <p:grpSpPr>
              <a:xfrm>
                <a:off x="385920" y="1199520"/>
                <a:ext cx="2009520" cy="4894560"/>
                <a:chOff x="385920" y="1199520"/>
                <a:chExt cx="2009520" cy="4894560"/>
              </a:xfrm>
            </p:grpSpPr>
            <p:sp>
              <p:nvSpPr>
                <p:cNvPr id="59" name="AutoShape 45"/>
                <p:cNvSpPr/>
                <p:nvPr/>
              </p:nvSpPr>
              <p:spPr>
                <a:xfrm>
                  <a:off x="385920" y="1199520"/>
                  <a:ext cx="1843200" cy="1121760"/>
                </a:xfrm>
                <a:prstGeom prst="flowChartProcess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6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Системы с интеллектуальным интерфейсом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коммуникативные системы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AutoShape 44"/>
                <p:cNvSpPr/>
                <p:nvPr/>
              </p:nvSpPr>
              <p:spPr>
                <a:xfrm>
                  <a:off x="550080" y="2524680"/>
                  <a:ext cx="1845360" cy="713520"/>
                </a:xfrm>
                <a:prstGeom prst="flowChartProcess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Интеллектуальные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базы данны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AutoShape 43"/>
                <p:cNvSpPr/>
                <p:nvPr/>
              </p:nvSpPr>
              <p:spPr>
                <a:xfrm>
                  <a:off x="550080" y="3340080"/>
                  <a:ext cx="1845360" cy="714600"/>
                </a:xfrm>
                <a:prstGeom prst="flowChartProcess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6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Естественно-языковы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интерфейс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AutoShape 42"/>
                <p:cNvSpPr/>
                <p:nvPr/>
              </p:nvSpPr>
              <p:spPr>
                <a:xfrm>
                  <a:off x="550080" y="4156200"/>
                  <a:ext cx="1845360" cy="502920"/>
                </a:xfrm>
                <a:prstGeom prst="flowChartProcess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5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Гипертекстовые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системы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AutoShape 41"/>
                <p:cNvSpPr/>
                <p:nvPr/>
              </p:nvSpPr>
              <p:spPr>
                <a:xfrm>
                  <a:off x="550080" y="4768560"/>
                  <a:ext cx="1845360" cy="713520"/>
                </a:xfrm>
                <a:prstGeom prst="flowChartProcess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6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Системы контекстно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помощи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AutoShape 40"/>
                <p:cNvSpPr/>
                <p:nvPr/>
              </p:nvSpPr>
              <p:spPr>
                <a:xfrm>
                  <a:off x="550080" y="5584680"/>
                  <a:ext cx="1845360" cy="509400"/>
                </a:xfrm>
                <a:prstGeom prst="flowChartProcess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7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Когнитивная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графика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Line 39"/>
                <p:cNvSpPr/>
                <p:nvPr/>
              </p:nvSpPr>
              <p:spPr>
                <a:xfrm>
                  <a:off x="406800" y="2320560"/>
                  <a:ext cx="0" cy="346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Line 38"/>
                <p:cNvSpPr/>
                <p:nvPr/>
              </p:nvSpPr>
              <p:spPr>
                <a:xfrm>
                  <a:off x="406800" y="5788800"/>
                  <a:ext cx="102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Line 37"/>
                <p:cNvSpPr/>
                <p:nvPr/>
              </p:nvSpPr>
              <p:spPr>
                <a:xfrm>
                  <a:off x="406800" y="5176080"/>
                  <a:ext cx="102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Line 36"/>
                <p:cNvSpPr/>
                <p:nvPr/>
              </p:nvSpPr>
              <p:spPr>
                <a:xfrm>
                  <a:off x="406800" y="4462560"/>
                  <a:ext cx="102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35"/>
                <p:cNvSpPr/>
                <p:nvPr/>
              </p:nvSpPr>
              <p:spPr>
                <a:xfrm>
                  <a:off x="406800" y="3748680"/>
                  <a:ext cx="102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Line 34"/>
                <p:cNvSpPr/>
                <p:nvPr/>
              </p:nvSpPr>
              <p:spPr>
                <a:xfrm>
                  <a:off x="406800" y="2932920"/>
                  <a:ext cx="102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AutoShape 32"/>
              <p:cNvSpPr/>
              <p:nvPr/>
            </p:nvSpPr>
            <p:spPr>
              <a:xfrm>
                <a:off x="2743200" y="2628000"/>
                <a:ext cx="1946520" cy="30636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Классифицирующ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AutoShape 31"/>
              <p:cNvSpPr/>
              <p:nvPr/>
            </p:nvSpPr>
            <p:spPr>
              <a:xfrm>
                <a:off x="2743200" y="3036600"/>
                <a:ext cx="1946520" cy="30492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Доопределяющ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AutoShape 30"/>
              <p:cNvSpPr/>
              <p:nvPr/>
            </p:nvSpPr>
            <p:spPr>
              <a:xfrm>
                <a:off x="2743200" y="3443760"/>
                <a:ext cx="1946520" cy="30636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Трансформирующ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utoShape 29"/>
              <p:cNvSpPr/>
              <p:nvPr/>
            </p:nvSpPr>
            <p:spPr>
              <a:xfrm>
                <a:off x="2743200" y="3852360"/>
                <a:ext cx="1946520" cy="30636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Мультиагентны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28"/>
              <p:cNvSpPr/>
              <p:nvPr/>
            </p:nvSpPr>
            <p:spPr>
              <a:xfrm>
                <a:off x="2538360" y="2321640"/>
                <a:ext cx="0" cy="163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27"/>
              <p:cNvSpPr/>
              <p:nvPr/>
            </p:nvSpPr>
            <p:spPr>
              <a:xfrm>
                <a:off x="2538360" y="3954600"/>
                <a:ext cx="20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26"/>
              <p:cNvSpPr/>
              <p:nvPr/>
            </p:nvSpPr>
            <p:spPr>
              <a:xfrm>
                <a:off x="2538360" y="3546000"/>
                <a:ext cx="20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25"/>
              <p:cNvSpPr/>
              <p:nvPr/>
            </p:nvSpPr>
            <p:spPr>
              <a:xfrm>
                <a:off x="2538360" y="3137760"/>
                <a:ext cx="20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24"/>
              <p:cNvSpPr/>
              <p:nvPr/>
            </p:nvSpPr>
            <p:spPr>
              <a:xfrm>
                <a:off x="2538360" y="2730240"/>
                <a:ext cx="20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AutoShape 23"/>
              <p:cNvSpPr/>
              <p:nvPr/>
            </p:nvSpPr>
            <p:spPr>
              <a:xfrm>
                <a:off x="5059440" y="2526120"/>
                <a:ext cx="1742400" cy="51048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7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Индуктивны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систем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AutoShape 22"/>
              <p:cNvSpPr/>
              <p:nvPr/>
            </p:nvSpPr>
            <p:spPr>
              <a:xfrm>
                <a:off x="5059440" y="3137760"/>
                <a:ext cx="1742400" cy="51012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7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Нейронны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сет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AutoShape 21"/>
              <p:cNvSpPr/>
              <p:nvPr/>
            </p:nvSpPr>
            <p:spPr>
              <a:xfrm>
                <a:off x="5059440" y="3750120"/>
                <a:ext cx="1742400" cy="81432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Системы, основанны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на прецедентах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AutoShape 20"/>
              <p:cNvSpPr/>
              <p:nvPr/>
            </p:nvSpPr>
            <p:spPr>
              <a:xfrm>
                <a:off x="5059440" y="4668120"/>
                <a:ext cx="1742400" cy="50940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7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Информационны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хранилищ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19"/>
              <p:cNvSpPr/>
              <p:nvPr/>
            </p:nvSpPr>
            <p:spPr>
              <a:xfrm>
                <a:off x="4956120" y="2321640"/>
                <a:ext cx="0" cy="26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18"/>
              <p:cNvSpPr/>
              <p:nvPr/>
            </p:nvSpPr>
            <p:spPr>
              <a:xfrm>
                <a:off x="4956120" y="4974120"/>
                <a:ext cx="10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17"/>
              <p:cNvSpPr/>
              <p:nvPr/>
            </p:nvSpPr>
            <p:spPr>
              <a:xfrm>
                <a:off x="4956120" y="4157280"/>
                <a:ext cx="10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16"/>
              <p:cNvSpPr/>
              <p:nvPr/>
            </p:nvSpPr>
            <p:spPr>
              <a:xfrm>
                <a:off x="4956120" y="3443760"/>
                <a:ext cx="10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5"/>
              <p:cNvSpPr/>
              <p:nvPr/>
            </p:nvSpPr>
            <p:spPr>
              <a:xfrm>
                <a:off x="4956120" y="2832120"/>
                <a:ext cx="10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AutoShape 14"/>
              <p:cNvSpPr/>
              <p:nvPr/>
            </p:nvSpPr>
            <p:spPr>
              <a:xfrm>
                <a:off x="7211160" y="2526120"/>
                <a:ext cx="1536480" cy="61164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ASE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технологи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AutoShape 13"/>
              <p:cNvSpPr/>
              <p:nvPr/>
            </p:nvSpPr>
            <p:spPr>
              <a:xfrm>
                <a:off x="7211160" y="3239640"/>
                <a:ext cx="1536480" cy="51048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7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Компонентны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технологи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7005960" y="2321640"/>
                <a:ext cx="0" cy="12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1"/>
              <p:cNvSpPr/>
              <p:nvPr/>
            </p:nvSpPr>
            <p:spPr>
              <a:xfrm>
                <a:off x="7005960" y="3546000"/>
                <a:ext cx="20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0"/>
              <p:cNvSpPr/>
              <p:nvPr/>
            </p:nvSpPr>
            <p:spPr>
              <a:xfrm>
                <a:off x="7005960" y="2832120"/>
                <a:ext cx="20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9"/>
              <p:cNvSpPr/>
              <p:nvPr/>
            </p:nvSpPr>
            <p:spPr>
              <a:xfrm>
                <a:off x="1267920" y="894600"/>
                <a:ext cx="666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8"/>
              <p:cNvSpPr/>
              <p:nvPr/>
            </p:nvSpPr>
            <p:spPr>
              <a:xfrm>
                <a:off x="1267920" y="8946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7"/>
              <p:cNvSpPr/>
              <p:nvPr/>
            </p:nvSpPr>
            <p:spPr>
              <a:xfrm>
                <a:off x="3624480" y="8946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5776200" y="8946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5"/>
              <p:cNvSpPr/>
              <p:nvPr/>
            </p:nvSpPr>
            <p:spPr>
              <a:xfrm>
                <a:off x="7929000" y="8946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4"/>
              <p:cNvSpPr/>
              <p:nvPr/>
            </p:nvSpPr>
            <p:spPr>
              <a:xfrm>
                <a:off x="4854240" y="486000"/>
                <a:ext cx="0" cy="40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3"/>
              <p:cNvSpPr/>
              <p:nvPr/>
            </p:nvSpPr>
            <p:spPr>
              <a:xfrm>
                <a:off x="2017800" y="6199920"/>
                <a:ext cx="6801840" cy="32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Классификация интеллектуальных систем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179280" y="26028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2. Инженерия знаний. Модели представления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24000" y="1628640"/>
            <a:ext cx="849780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ь экспертных знаний носит неосознаваем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ерт не всегда способен оценить важность тех или иных знаний для принятия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, накопленный экспертом, сложно вербализовать и представить в формализованном ви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0920" y="4027320"/>
            <a:ext cx="8497800" cy="27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дача инженерии зн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извле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формал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накоп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наний с целью последующего исполь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Напомним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нания представляют собой результат мыслительной деятельности человека, направленной на обобщение его опыта. Это не только данные, но и взаимосвязи между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91320" y="1243080"/>
            <a:ext cx="37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Э.Фейгенбаум, США, 1977 г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Organization Chart 5"/>
          <p:cNvGrpSpPr/>
          <p:nvPr/>
        </p:nvGrpSpPr>
        <p:grpSpPr>
          <a:xfrm>
            <a:off x="179280" y="189000"/>
            <a:ext cx="8712720" cy="3238920"/>
            <a:chOff x="179280" y="189000"/>
            <a:chExt cx="8712720" cy="3238920"/>
          </a:xfrm>
        </p:grpSpPr>
        <p:cxnSp>
          <p:nvCxnSpPr>
            <p:cNvPr id="106" name="_s1028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5383800" y="634680"/>
              <a:ext cx="648360" cy="2346840"/>
            </a:xfrm>
            <a:prstGeom prst="bentConnector3">
              <a:avLst>
                <a:gd name="adj1" fmla="val 2088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29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3038400" y="635400"/>
              <a:ext cx="648360" cy="2345760"/>
            </a:xfrm>
            <a:prstGeom prst="bentConnector3">
              <a:avLst>
                <a:gd name="adj1" fmla="val 2088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1030"/>
            <p:cNvSpPr/>
            <p:nvPr/>
          </p:nvSpPr>
          <p:spPr>
            <a:xfrm>
              <a:off x="2524320" y="189000"/>
              <a:ext cx="4021200" cy="12956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Знан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 характеру информа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1"/>
            <p:cNvSpPr/>
            <p:nvPr/>
          </p:nvSpPr>
          <p:spPr>
            <a:xfrm>
              <a:off x="179280" y="2132280"/>
              <a:ext cx="4021200" cy="129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Декларат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описание фактов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явлений, основных связей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акономерностей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2"/>
            <p:cNvSpPr/>
            <p:nvPr/>
          </p:nvSpPr>
          <p:spPr>
            <a:xfrm>
              <a:off x="4870800" y="2132280"/>
              <a:ext cx="4021200" cy="129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Процедурные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описание действий или процедур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торые можно примени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 фактам и явлениям дл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стижения цели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Organization Chart 15"/>
          <p:cNvGrpSpPr/>
          <p:nvPr/>
        </p:nvGrpSpPr>
        <p:grpSpPr>
          <a:xfrm>
            <a:off x="179280" y="3645000"/>
            <a:ext cx="8712720" cy="2591280"/>
            <a:chOff x="179280" y="3645000"/>
            <a:chExt cx="8712720" cy="2591280"/>
          </a:xfrm>
        </p:grpSpPr>
        <p:cxnSp>
          <p:nvCxnSpPr>
            <p:cNvPr id="112" name="_s1035"/>
            <p:cNvCxnSpPr>
              <a:stCxn id="113" idx="0"/>
              <a:endCxn id="114" idx="2"/>
            </p:cNvCxnSpPr>
            <p:nvPr/>
          </p:nvCxnSpPr>
          <p:spPr>
            <a:xfrm flipV="1" rot="16200000">
              <a:off x="5448600" y="3766680"/>
              <a:ext cx="518760" cy="2346840"/>
            </a:xfrm>
            <a:prstGeom prst="bentConnector3">
              <a:avLst>
                <a:gd name="adj1" fmla="val 209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036"/>
            <p:cNvCxnSpPr>
              <a:stCxn id="116" idx="0"/>
              <a:endCxn id="114" idx="2"/>
            </p:cNvCxnSpPr>
            <p:nvPr/>
          </p:nvCxnSpPr>
          <p:spPr>
            <a:xfrm flipH="1" flipV="1" rot="5400000">
              <a:off x="3103200" y="3767400"/>
              <a:ext cx="518760" cy="2345760"/>
            </a:xfrm>
            <a:prstGeom prst="bentConnector3">
              <a:avLst>
                <a:gd name="adj1" fmla="val 209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4" name="_s1037"/>
            <p:cNvSpPr/>
            <p:nvPr/>
          </p:nvSpPr>
          <p:spPr>
            <a:xfrm>
              <a:off x="2524320" y="3645000"/>
              <a:ext cx="4021200" cy="1036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Знан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 способу приобрет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8"/>
            <p:cNvSpPr/>
            <p:nvPr/>
          </p:nvSpPr>
          <p:spPr>
            <a:xfrm>
              <a:off x="179280" y="5199840"/>
              <a:ext cx="4021200" cy="1036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Фактичес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известные факт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 зависимости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9"/>
            <p:cNvSpPr/>
            <p:nvPr/>
          </p:nvSpPr>
          <p:spPr>
            <a:xfrm>
              <a:off x="4870800" y="5199840"/>
              <a:ext cx="4021200" cy="1036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Эвристичес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основаны н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пыте эксперт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9"/>
          <p:cNvSpPr/>
          <p:nvPr/>
        </p:nvSpPr>
        <p:spPr>
          <a:xfrm>
            <a:off x="250920" y="260280"/>
            <a:ext cx="86421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использования знаний в ИИС их необходимо представить в вид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азы зн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емантической модели, описывающей предметную область и позволяющую отвечать на вопросы из этой предметной области, ответы на которые явно в базе  не присутству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База знаний состоит из 2-х компон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азы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одержащих знания о предметной области в формализованном ви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еханизма (системы, правил, процедур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учения новых знаний на основе существующих в ба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324000" y="4869000"/>
            <a:ext cx="856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База дан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рганизуется на основ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д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 моделей (например, реляционно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База зна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сновывается на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дной или нескольки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делях представления знаний – универсальных и/или специализирован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римеры универсальных моделей представления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79280" y="692280"/>
            <a:ext cx="87854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. Логическая мод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снована на формальных логических правилах. Знания представляются в вид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дика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утверждений) первого порядка, над которыми можно выполнять логические опе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: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Все импортные товары требу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таможенного оформ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Q: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Товар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N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– импортный тов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6227640" y="2421000"/>
            <a:ext cx="432000" cy="936720"/>
          </a:xfrm>
          <a:custGeom>
            <a:avLst/>
            <a:gdLst>
              <a:gd name="textAreaLeft" fmla="*/ 0 w 432000"/>
              <a:gd name="textAreaRight" fmla="*/ 155880 w 432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6877080" y="2637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ик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79280" y="3716280"/>
            <a:ext cx="896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выполнения логической операции появляется новое верное утвержд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R: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Товар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требует таможенного оформ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79280" y="508464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ыми словами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все импортные товары требуют таможенного оформления, и товар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является импортным, то он требует таможенного оформления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^Q)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→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10:56:12Z</dcterms:created>
  <dc:creator>Anatoly W</dc:creator>
  <dc:description/>
  <dc:language>en-US</dc:language>
  <cp:lastModifiedBy>Вячеслав Утёмов</cp:lastModifiedBy>
  <dcterms:modified xsi:type="dcterms:W3CDTF">2016-04-01T06:00:10Z</dcterms:modified>
  <cp:revision>48</cp:revision>
  <dc:subject/>
  <dc:title>«ИНФОРМАЦИОННЫЕ СИСТЕМЫ В ЭКОНОМИКЕ»</dc:title>
</cp:coreProperties>
</file>